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3E9C-CFAE-4804-B4C5-C3988F565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89A5-070F-4D06-9E91-F8F765BE41D1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9ECE-B17F-4521-A04B-25762CBD569C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F0A7-7B44-4A66-A2C6-AE98F90850B6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7D06-885A-4BB8-8E26-B3E5757B149C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8322-0F58-41F3-9378-74AC4DF20FF9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3F8A-811D-41BC-945E-EC75AAC0E0DC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4D89-C35F-45F3-9137-365253A4B43A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188F-4113-4D26-8339-A5381B54F11D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57BE-64FB-4841-A6E5-A716E6994B62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94E5-033F-4B48-9C46-BB8DF21C06DB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CB2C-A307-4099-B2A0-ECF0CB2F810F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4FC-87F1-4236-9677-0EE6C441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FC7-3B29-4D17-9171-4F426A5D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479-C15B-495D-BB33-1401E65A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C3E-AD17-4DE0-97A7-3276E8A9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7922-6356-425C-AACA-6AC6AEFD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774E-B664-47AE-AFA6-70F8C8A9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867D-1D77-4A0A-9CE5-32713732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1601-31B4-431B-965D-AAD0A0B0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7171-1428-4132-B2C2-B00B9AC0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8AEB-B770-405D-9BB1-4C86BF7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BC7B-0B20-4192-838A-2A35A7C4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442-82AE-4D1B-B615-07DA6AF5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19E5-E2A2-4923-B27F-A5150B38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FF68-F6CC-430A-86C4-E6EA095B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F1BE-955F-4444-9442-391E8D23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B8BE-EDB8-46FE-874F-4126215D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54AA-79F9-419D-8164-B8E22AF8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97C-92B7-4954-B8D4-A0F3C124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C00-F221-4F95-A111-5B201901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5FC-8F2E-4E9F-8E85-A039E466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561-0884-4701-A501-EB509F68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BA3-D719-4F84-98F7-C219430F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B22-A8AD-46F6-B85F-5C25B882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8B8-F6BA-4FCD-84A8-40C8175E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F711-2E45-4BE3-B256-B7706C3BA75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102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30FB-F544-427F-A7C7-F9A89548FEB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Riddle of Hypn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fining hypnos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nature of hypnos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ies of hypnos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caine’s Effect on the Brai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caine blocks the brain’s reabsorption (“reuptake”) of the neurotransmitters dopamine and norepinephrine, so levels of these substances ris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result is an overstimulation of certain brain circuits and a brief euphoric high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en drug wears off, depletion of dopamine may cause user to “crash.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&#10;F05.04.gif                                                     0002E896Macintosh HD                   ABA78158:"/>
          <p:cNvPicPr/>
          <p:nvPr/>
        </p:nvPicPr>
        <p:blipFill>
          <a:blip r:embed="rId1"/>
          <a:stretch/>
        </p:blipFill>
        <p:spPr>
          <a:xfrm>
            <a:off x="6162840" y="3048120"/>
            <a:ext cx="2981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Psychology of Drug Effects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actions to psychoactive drugs depend on: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hysical factors such as body weight, metabolism, initial state of emotional arousal and physical toleranc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xperience or the number of times a person has used a dru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nvironmental factors such as where and with whom one is drink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ntal set or expectations for drug’s effect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fining hypn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 procedure in which the practitioner suggests changes in the sensations, perceptions, thoughts, feelings or behavior of the subjec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Nature of Hypn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hypnotic state is not sleep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ypnotic responsiveness depends more on the person being hypnotized than on the skill of the hypnoti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ypnotized people can’t be forced to do things against their wil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eats performed under hypnosis can be performed by motivated people without hypnos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Nature of Hypn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ypnosis doesn’t increase accuracy of memory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ypnosis doesn’t produce a literal reexperiencing of long-ago event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ypnotic suggestions have been used effectively for medical and psychological purpos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ories of Hypn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ssociation theori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Hypnosis is a split in consciousness in which one part of the mind operates independently of the rest of the consciousness, 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uring hypnosis, dissociation occurs between an executive control system in the brain (probably frontal lobes) and other brain systems involved in thinking and act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Picture 4" descr="IL05.05.gif                                                    0002E896Macintosh HD                   ABA78158:"/>
          <p:cNvPicPr/>
          <p:nvPr/>
        </p:nvPicPr>
        <p:blipFill>
          <a:blip r:embed="rId1"/>
          <a:stretch/>
        </p:blipFill>
        <p:spPr>
          <a:xfrm>
            <a:off x="5257800" y="4594320"/>
            <a:ext cx="332280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ories of Hypn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ciocognitive theor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ffects of hypnosis result from interaction between social influence of the hypnotist (socio) and the abilities, beliefs and expectations of the subject (cognitive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n explain “alien abduction” and “past-life regressio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5" descr="IL05.06.gif                                                    0002E896Macintosh HD                   ABA78158:"/>
          <p:cNvPicPr/>
          <p:nvPr/>
        </p:nvPicPr>
        <p:blipFill>
          <a:blip r:embed="rId1"/>
          <a:stretch/>
        </p:blipFill>
        <p:spPr>
          <a:xfrm>
            <a:off x="4800600" y="3971880"/>
            <a:ext cx="39816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scious-altering Dru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assifying dru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physiology of drug effec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psychology of drug effec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fying Dru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sychoactive dru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-400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ubstance capable of influencing perception, mood, cognition, or behavior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yp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-400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timulant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205640" indent="-2008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peed up activity in the CN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-400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pressant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205640" indent="-2008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low down activity in the CN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-400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piate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205640" indent="-2008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lieve pain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-400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sychedelic drug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205640" indent="-2008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isrupt normal thought processe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Physiology of Drug Effec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sychoactive drugs work by acting on brain neurotransmitters. These drugs ca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ncrease or decrease the release of neurotransmitters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revent reabsorption of excess neurotransmitters by the cells that have released them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lock the effects of neurotransmitters on receiving cells, 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ind to receptors that would ordinarily be triggered by a neurotransmitter or a neuromodulator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3:25:58Z</dcterms:created>
  <dc:creator>Psychology Department</dc:creator>
  <dc:description/>
  <dc:language>en-US</dc:language>
  <cp:lastModifiedBy>Meghan Reilly</cp:lastModifiedBy>
  <cp:lastPrinted>2002-05-29T17:01:12Z</cp:lastPrinted>
  <dcterms:modified xsi:type="dcterms:W3CDTF">2011-10-28T13:04:53Z</dcterms:modified>
  <cp:revision>14</cp:revision>
  <dc:subject/>
  <dc:title>Body Rhythms and Mental States</dc:title>
</cp:coreProperties>
</file>